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FFBD-5533-4DBF-BCEA-4E0D7CA0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D6FB-74C7-4F9D-928D-30D72C1D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0224-AB03-4B41-B034-39EE7F44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7059-6E29-4236-B961-1D6DEBBD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0EC3-5EED-4E3A-9097-7BA5B4CA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5CA8-2D6C-45B8-BCA9-33D24B71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CA62-C5A0-4C7A-96AB-9305F946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E6A3-5FBA-4E40-9416-21943C77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2431-9C3A-40B7-954E-88136190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F046-EF0B-4837-B474-B65EFD7C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7EA8-ABA7-47F8-9AE9-ED92B065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4569-C55F-4349-A278-8B96EA21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CDE7-51B7-4664-95E1-5A9739DFA0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54388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Monotype Corsiva"/>
                <a:ea typeface="Arial Unicode MS"/>
              </a:rPr>
              <a:t>Богатыри в русской литератур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Семёнова  Л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Monotype Corsiva"/>
              </a:rPr>
              <a:t>Ресурс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Богаты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Чем знамениты русские богатыр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Герои бы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Кто такой богатыр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ово "богатырь" в русском языке восточного (тюркского) происхожд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юркское происхождение слова «богатырь» впервые встречается в Ипатьевской летописи. Характерно, что изначально, в древности, для понятия «богатырь» использовалось слово «хоробр», которое со временем переросло в эпитет «храбрый». 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гатырь – герой русских былин, совершающий воинские подвиги; человек безмерной силы, стойкости и отва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гатырь – патриот, защитник земли русской. Главное, что им движет - желание постоять за людей и ве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F:\всяк\25.jpg"/>
          <p:cNvPicPr/>
          <p:nvPr/>
        </p:nvPicPr>
        <p:blipFill>
          <a:blip r:embed="rId1"/>
          <a:stretch/>
        </p:blipFill>
        <p:spPr>
          <a:xfrm>
            <a:off x="1714680" y="3714840"/>
            <a:ext cx="47624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которые учёные старой мифологической школы делили богатырей н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571840"/>
            <a:ext cx="40384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«Старших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ятогор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кул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льг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хман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уна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2571840"/>
            <a:ext cx="40384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«Младших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ья Муромец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лёша Попович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брыня Никитич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Прямая со стрелкой 5"/>
          <p:cNvCxnSpPr/>
          <p:nvPr/>
        </p:nvCxnSpPr>
        <p:spPr>
          <a:xfrm flipH="1">
            <a:off x="2214360" y="1928880"/>
            <a:ext cx="357840" cy="4291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8"/>
          <p:cNvCxnSpPr/>
          <p:nvPr/>
        </p:nvCxnSpPr>
        <p:spPr>
          <a:xfrm>
            <a:off x="6428160" y="1928880"/>
            <a:ext cx="358200" cy="4291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840" y="214200"/>
            <a:ext cx="84009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гатыри являются главными героями были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лин написано много. Вот некоторые из ни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Вольга Всеславьевич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Микула Селянинович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вятогор – богатырь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ро Добрыню Никитича и Змея Горыныч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Илья Муромец и Соловей – Разбойник»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ждому богатырю присуща определенная, доминирующая черта характе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лья Муромец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лицетворяет силу, это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мый мощный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сский богатырь после Святого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бры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оже сильный и храбрый воин, змееборец, но еще 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огатырь-диплома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Его князь Владимир отправляет с особыми дипломатическими поручения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леша Попович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лицетворяе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мекалку и хитр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Богатыри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139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орыня, Дубыня, Усыня, Святогор, Никита Кожемякин, Вольга Всеславьевич, Микула Селянинович, Алёша Попович, Добрыня Никитич, Илья Муромец и д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F:\картинки\vasnetsov0048.jpg"/>
          <p:cNvPicPr/>
          <p:nvPr/>
        </p:nvPicPr>
        <p:blipFill>
          <a:blip r:embed="rId1"/>
          <a:stretch/>
        </p:blipFill>
        <p:spPr>
          <a:xfrm>
            <a:off x="428760" y="214200"/>
            <a:ext cx="4357440" cy="3411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F:\картинки\volot.jpg"/>
          <p:cNvPicPr/>
          <p:nvPr/>
        </p:nvPicPr>
        <p:blipFill>
          <a:blip r:embed="rId2"/>
          <a:stretch/>
        </p:blipFill>
        <p:spPr>
          <a:xfrm>
            <a:off x="5500800" y="2286000"/>
            <a:ext cx="2539800" cy="4064040"/>
          </a:xfrm>
          <a:prstGeom prst="rect">
            <a:avLst/>
          </a:prstGeom>
          <a:ln w="0">
            <a:noFill/>
          </a:ln>
        </p:spPr>
      </p:pic>
      <p:sp>
        <p:nvSpPr>
          <p:cNvPr id="62" name="Управляющая кнопка: назад 5"/>
          <p:cNvSpPr/>
          <p:nvPr/>
        </p:nvSpPr>
        <p:spPr>
          <a:xfrm>
            <a:off x="8429760" y="642924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10800"/>
                </a:moveTo>
                <a:lnTo>
                  <a:pt x="25890" y="3794"/>
                </a:lnTo>
                <a:lnTo>
                  <a:pt x="2589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Вывод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так, изучив данную тему можно сделать вывод, чт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огатыр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сильный, смелый человек. Он воплощает идеал мужественного, преданного родине и народу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7:27:45Z</dcterms:created>
  <dc:creator>GYPNORION</dc:creator>
  <dc:description/>
  <dc:language>en-US</dc:language>
  <cp:lastModifiedBy>GYPNORION</cp:lastModifiedBy>
  <dcterms:modified xsi:type="dcterms:W3CDTF">2011-05-24T17:33:39Z</dcterms:modified>
  <cp:revision>27</cp:revision>
  <dc:subject/>
  <dc:title>Слайд 1</dc:title>
</cp:coreProperties>
</file>